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5AC-05D1-4479-8918-416A3F50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F1B-B8D5-4D96-B999-B7EE7034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C78-5861-4669-AD94-9D6BE7D9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E18-51C1-48EF-A553-F68AB13D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84A-5A21-4206-BF66-2464B91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50A-585C-4392-ADA4-B80F0571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545-CCB6-41A3-AE20-793D874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81E-D44F-404B-B367-7012D1E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6A8-C73A-4FC5-B3E4-2E075CAE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610-3246-4D1C-A610-70AE05D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BC4-0639-4EF0-A305-64B3647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1C8-2461-457E-8B22-4C3801F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5A40-DC27-4136-90DC-88A8BFAC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48481" r="64755" b="0"/>
          <a:stretch/>
        </p:blipFill>
        <p:spPr>
          <a:xfrm>
            <a:off x="836640" y="1763640"/>
            <a:ext cx="463068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68280" y="468360"/>
            <a:ext cx="417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29292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inladu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29292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336320" y="1054080"/>
            <a:ext cx="3812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Einwei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e m e i n d e h a u s 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ient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440" y="3276720"/>
            <a:ext cx="61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ann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am Samstag, de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.12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: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287960"/>
            <a:ext cx="662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Wir wollen das neue Gemeindehaus einweihen 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gemeinsam unseren ersten Weihnachtsbaum schmüc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Um diesen zu gestalten, bitte ich alle Gäste e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kleine Gabe mitzubringen (Kugel, Strohstern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Nach dem offiziellen Teil werden wir mit Glühw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und Weihnachtsmusik den Abend ausklingen la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ench Script MT"/>
              </a:rPr>
              <a:t>Für das leibliche Wohl ist gesor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3080" y="795672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 zahlreiches Erscheinen wird geb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10440" y="8388360"/>
            <a:ext cx="316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dwardian Script ITC"/>
              </a:rPr>
              <a:t>Nino Winkel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000" y="0"/>
            <a:ext cx="6335640" cy="10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60280" y="9037800"/>
            <a:ext cx="633564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1:24Z</dcterms:created>
  <dc:creator>ON1</dc:creator>
  <dc:description/>
  <dc:language>en-US</dc:language>
  <cp:lastModifiedBy>Martina</cp:lastModifiedBy>
  <dcterms:modified xsi:type="dcterms:W3CDTF">2009-12-03T10:56:36Z</dcterms:modified>
  <cp:revision>7</cp:revision>
  <dc:subject/>
  <dc:title>Folie 1</dc:title>
</cp:coreProperties>
</file>